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0213-476C-40ED-8D16-98075EC59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BBFE-FB90-4C26-A9B3-5FFAD725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5EC-7E00-4C8A-9BAC-8B0C5EF2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98A-CD91-40B6-8FD3-5BC6D32C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AB6-13D6-478C-A2C9-0E27A43B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74A-B788-4785-9FDD-E2622F01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C76-CDC7-4915-BB0E-0A76E228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B78-C37C-4914-BCD5-3DCF326C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E2AD-05F2-4057-9A00-35E5D211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09A-A18C-4CCA-AA5B-9A8BD980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A48-B330-4358-BE80-CD2B344C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C89-72DE-4ECD-A014-770D544A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187-38D2-4040-AA07-7E0EC24B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AE9-CC0D-4884-94C6-9F74E0A8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9D82-6307-453E-9507-12BEAE3DE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1828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ie Yous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057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ie Yous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3623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2590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7"/>
          <p:cNvSpPr/>
          <p:nvPr/>
        </p:nvSpPr>
        <p:spPr>
          <a:xfrm>
            <a:off x="76320" y="2971800"/>
            <a:ext cx="1752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Angie. Yo tengo catorce años. Yo vivo en Nueva York. Yo estoy feliz y dulce.  Te amo cantar y nadar. Yo tengo cuatro hermanas. Yo soy de Egipto . Mi amo de familia y amigos . Espero oír de usted pronto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an amigas? ¿Quiren venir a mi cas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8:27:29Z</dcterms:modified>
  <cp:revision>106</cp:revision>
  <dc:subject/>
  <dc:title>Profile</dc:title>
</cp:coreProperties>
</file>